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040-E5EB-43A5-A41B-CF826B63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890-7584-4671-9F8A-848C6BC1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962-EA17-4E8E-BC0A-C9A99E61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243-36E0-41A4-999B-5770048F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C32-4FB1-4BF1-93A4-962456C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FCA-899D-4822-8092-C0A2306F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22A-1557-4DD1-91F4-229F3D5A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5D1-E4EE-46A8-B67B-38C58450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0E8-E885-4EA5-8FF5-3FA95F2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5A3-01FA-4BA4-9959-FA05F04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727-A74B-440E-A94F-36C3662E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C59-5627-4A0F-84BE-796DDE1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103E-706F-4551-9EB8-4FD22024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 rot="20286000">
            <a:off x="533880" y="2133720"/>
            <a:ext cx="7772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cc"/>
                </a:solidFill>
                <a:latin typeface="Times New Roman"/>
              </a:rPr>
              <a:t>LUGARES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943600" y="5029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ul Wider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4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838080" y="301320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Voy ____________ para rezar para mis amigo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3"/>
          <p:cNvSpPr/>
          <p:nvPr/>
        </p:nvSpPr>
        <p:spPr>
          <a:xfrm>
            <a:off x="3048120" y="198108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catedral o la igles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43000" y="1371600"/>
            <a:ext cx="7696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comprar sellos y mandar cart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mment 3"/>
          <p:cNvSpPr/>
          <p:nvPr/>
        </p:nvSpPr>
        <p:spPr>
          <a:xfrm>
            <a:off x="3505320" y="11430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oficina de corre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1371600"/>
            <a:ext cx="838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comprar frutas, flores, y muchas cosas má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3"/>
          <p:cNvSpPr/>
          <p:nvPr/>
        </p:nvSpPr>
        <p:spPr>
          <a:xfrm>
            <a:off x="2743200" y="1219320"/>
            <a:ext cx="502920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mercado o la frut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04920" y="137160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 para recibir  dinero que necesito para ir de compr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3"/>
          <p:cNvSpPr/>
          <p:nvPr/>
        </p:nvSpPr>
        <p:spPr>
          <a:xfrm>
            <a:off x="2743200" y="1219320"/>
            <a:ext cx="36417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banc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143000" y="1371600"/>
            <a:ext cx="6781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 para ir de compras en muchas tiendas diferent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3"/>
          <p:cNvSpPr/>
          <p:nvPr/>
        </p:nvSpPr>
        <p:spPr>
          <a:xfrm>
            <a:off x="3505320" y="304920"/>
            <a:ext cx="42670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centro comerci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43000" y="1371600"/>
            <a:ext cx="746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comprar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3"/>
          <p:cNvSpPr/>
          <p:nvPr/>
        </p:nvSpPr>
        <p:spPr>
          <a:xfrm>
            <a:off x="3048120" y="1143000"/>
            <a:ext cx="48765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almac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143000" y="1371600"/>
            <a:ext cx="723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 para ver un partido de fútbol américa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3"/>
          <p:cNvSpPr/>
          <p:nvPr/>
        </p:nvSpPr>
        <p:spPr>
          <a:xfrm>
            <a:off x="3124080" y="1143000"/>
            <a:ext cx="46483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estadi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3716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comprar carne de res y jamó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carnic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04920" y="13716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viajar a otro lugar en avió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aeropuer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04920" y="1371600"/>
            <a:ext cx="8839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comprar cosas necesarias para mi oficina como papel y plum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papel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129528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 para almorzar con mis amig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3"/>
          <p:cNvSpPr/>
          <p:nvPr/>
        </p:nvSpPr>
        <p:spPr>
          <a:xfrm>
            <a:off x="2438280" y="1143000"/>
            <a:ext cx="57913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cafet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4920" y="13716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comprar nuevos zapatos o nuevas bot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zapat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143000" y="1371600"/>
            <a:ext cx="8001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 para comprar medicin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3"/>
          <p:cNvSpPr/>
          <p:nvPr/>
        </p:nvSpPr>
        <p:spPr>
          <a:xfrm>
            <a:off x="3200400" y="1219320"/>
            <a:ext cx="563868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farm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mment 3"/>
          <p:cNvSpPr/>
          <p:nvPr/>
        </p:nvSpPr>
        <p:spPr>
          <a:xfrm>
            <a:off x="2362320" y="152388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panad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85800" y="301320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Voy ______________ para comprar muchos pasteles y p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066680" y="727200"/>
            <a:ext cx="6782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viendo una películ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3"/>
          <p:cNvSpPr/>
          <p:nvPr/>
        </p:nvSpPr>
        <p:spPr>
          <a:xfrm>
            <a:off x="2590920" y="4495680"/>
            <a:ext cx="36417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ci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838080" y="990720"/>
            <a:ext cx="79250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Estoy saliendo mi trabajo para ir a c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3"/>
          <p:cNvSpPr/>
          <p:nvPr/>
        </p:nvSpPr>
        <p:spPr>
          <a:xfrm>
            <a:off x="1219320" y="4343400"/>
            <a:ext cx="716256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estación del metr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ntando  el dinero que me da la cajer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3"/>
          <p:cNvSpPr/>
          <p:nvPr/>
        </p:nvSpPr>
        <p:spPr>
          <a:xfrm>
            <a:off x="2438280" y="5105520"/>
            <a:ext cx="36417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banc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sellos para mandar tarjetas postal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3"/>
          <p:cNvSpPr/>
          <p:nvPr/>
        </p:nvSpPr>
        <p:spPr>
          <a:xfrm>
            <a:off x="380880" y="5105520"/>
            <a:ext cx="838224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oficina de corre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mirando pinturas y escultur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muse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066680" y="380880"/>
            <a:ext cx="6782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zapat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zapat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066680" y="380880"/>
            <a:ext cx="6782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pa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panad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121932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 para compar pa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3"/>
          <p:cNvSpPr/>
          <p:nvPr/>
        </p:nvSpPr>
        <p:spPr>
          <a:xfrm>
            <a:off x="2438280" y="1143000"/>
            <a:ext cx="60199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panad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 cosas necesarias para la oficin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papel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Quiero volar a Buenos Aires en Argentina.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Ahora estoy en..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3"/>
          <p:cNvSpPr/>
          <p:nvPr/>
        </p:nvSpPr>
        <p:spPr>
          <a:xfrm>
            <a:off x="533520" y="5181480"/>
            <a:ext cx="80010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aeropuer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omment 3"/>
          <p:cNvSpPr/>
          <p:nvPr/>
        </p:nvSpPr>
        <p:spPr>
          <a:xfrm>
            <a:off x="609480" y="1523880"/>
            <a:ext cx="80010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09480" y="1324080"/>
            <a:ext cx="8001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aprender cosas important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3"/>
          <p:cNvSpPr/>
          <p:nvPr/>
        </p:nvSpPr>
        <p:spPr>
          <a:xfrm>
            <a:off x="2514600" y="1143000"/>
            <a:ext cx="57913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escue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43000" y="1371600"/>
            <a:ext cx="723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 para jugar al fútbol y descansar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3"/>
          <p:cNvSpPr/>
          <p:nvPr/>
        </p:nvSpPr>
        <p:spPr>
          <a:xfrm>
            <a:off x="3276720" y="1143000"/>
            <a:ext cx="44193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parq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143000" y="1371600"/>
            <a:ext cx="7391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 para comprar discos compact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3"/>
          <p:cNvSpPr/>
          <p:nvPr/>
        </p:nvSpPr>
        <p:spPr>
          <a:xfrm>
            <a:off x="3276720" y="2286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tienda de disc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990720" y="19810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y ____________ para comprar flores para mi abuel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3"/>
          <p:cNvSpPr/>
          <p:nvPr/>
        </p:nvSpPr>
        <p:spPr>
          <a:xfrm>
            <a:off x="2590920" y="1600200"/>
            <a:ext cx="472428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flor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omment 3"/>
          <p:cNvSpPr/>
          <p:nvPr/>
        </p:nvSpPr>
        <p:spPr>
          <a:xfrm>
            <a:off x="2362320" y="41148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helad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685800" y="1143000"/>
            <a:ext cx="7848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engo mucha hambre! Y hace mucho cal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762120" y="190512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y ____________ para comprar un sombrero para mi mamá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3"/>
          <p:cNvSpPr/>
          <p:nvPr/>
        </p:nvSpPr>
        <p:spPr>
          <a:xfrm>
            <a:off x="2286000" y="6858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somber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0:41:48Z</dcterms:created>
  <dc:creator>Paul Widergren</dc:creator>
  <dc:description/>
  <dc:language>en-US</dc:language>
  <cp:lastModifiedBy> </cp:lastModifiedBy>
  <dcterms:modified xsi:type="dcterms:W3CDTF">2010-10-26T18:53:24Z</dcterms:modified>
  <cp:revision>5</cp:revision>
  <dc:subject/>
  <dc:title>No Slide Title</dc:title>
</cp:coreProperties>
</file>